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7846-C99A-4FA2-AE78-51394C53A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7613-6422-4E96-91A5-3257D158C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F309-B6A5-42E9-8048-54C2DE05A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C148-605D-4A30-B439-4186A13A7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92CC6-029B-4F83-A3A0-393B834A7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262BF-FB7C-4C30-88B8-42BADF1DD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31120-2B75-47EE-AF4B-4B8C2339E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FC660-B41E-40CA-9DC4-AB4011C7F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FC510-F8FA-4734-9CF4-E4B48B6E8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68831-BBE2-4B67-AAF3-0A018F06A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02D4A-BFF8-4958-A194-7227724C5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1D8E-8D5E-4D49-ABA5-2DEEA8D43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606AC-C850-4C14-978B-34E695684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CBC50-934D-4507-AFA2-244C0D8C6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BD150-32E9-4959-9DBB-6FCDBEB43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A1558-FFEF-4645-9132-F7EF15A51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3A4FF-193C-49BC-9B2E-86A3BEDE2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3E1E-4B52-4D24-8CEA-2343967A7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9A2F-73F1-4BC6-B984-550BE55A1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E010-27EB-4C8F-8848-72BEE8AE1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1383-1872-452E-B00A-552BC77E7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F9F2-A35E-4B37-AAC4-605F7A58C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27FE-4ED5-40FF-B7D0-6C7FCEE89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BEC3-DA15-4EF6-B5FB-901D28ABF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1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D5990-6742-4068-81A1-CDE6279BC132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45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grpSp>
        <p:nvGrpSpPr>
          <p:cNvPr id="47" name="자유형 7"/>
          <p:cNvGrpSpPr/>
          <p:nvPr/>
        </p:nvGrpSpPr>
        <p:grpSpPr>
          <a:xfrm>
            <a:off x="6815160" y="420840"/>
            <a:ext cx="2335320" cy="6016320"/>
            <a:chOff x="6815160" y="420840"/>
            <a:chExt cx="2335320" cy="6016320"/>
          </a:xfrm>
        </p:grpSpPr>
        <p:pic>
          <p:nvPicPr>
            <p:cNvPr id="48" name="자유형 7" descr=""/>
            <p:cNvPicPr/>
            <p:nvPr/>
          </p:nvPicPr>
          <p:blipFill>
            <a:blip r:embed="rId4"/>
            <a:stretch/>
          </p:blipFill>
          <p:spPr>
            <a:xfrm>
              <a:off x="6815160" y="420840"/>
              <a:ext cx="2335320" cy="601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6819840" y="4287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A41BD-F373-431A-ADFD-51FFABEECA11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395280" y="2060640"/>
            <a:ext cx="842472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0" spc="-1" strike="noStrike">
                <a:solidFill>
                  <a:srgbClr val="6c6c6c"/>
                </a:solidFill>
                <a:latin typeface="Cambria"/>
              </a:rPr>
              <a:t>대구 경상병원</a:t>
            </a:r>
            <a:endParaRPr b="0" lang="en-US" sz="10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내용 개체 틀 5" descr="map1.JPG"/>
          <p:cNvPicPr/>
          <p:nvPr/>
        </p:nvPicPr>
        <p:blipFill>
          <a:blip r:embed="rId2"/>
          <a:stretch/>
        </p:blipFill>
        <p:spPr>
          <a:xfrm>
            <a:off x="4859280" y="2060640"/>
            <a:ext cx="3959280" cy="4176720"/>
          </a:xfrm>
          <a:prstGeom prst="rect">
            <a:avLst/>
          </a:prstGeom>
          <a:ln w="0">
            <a:noFill/>
          </a:ln>
        </p:spPr>
      </p:pic>
      <p:sp>
        <p:nvSpPr>
          <p:cNvPr id="93" name="부제목 2"/>
          <p:cNvSpPr/>
          <p:nvPr/>
        </p:nvSpPr>
        <p:spPr>
          <a:xfrm>
            <a:off x="324000" y="260280"/>
            <a:ext cx="388764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위치와 소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1484280"/>
            <a:ext cx="424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지하철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호선 두류역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" name="내용 개체 틀 2"/>
          <p:cNvSpPr/>
          <p:nvPr/>
        </p:nvSpPr>
        <p:spPr>
          <a:xfrm>
            <a:off x="-252360" y="2492280"/>
            <a:ext cx="69120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노인 전문 </a:t>
            </a:r>
            <a:r>
              <a:rPr b="0" lang="ko-KR" sz="3000" spc="-1" strike="noStrike">
                <a:solidFill>
                  <a:srgbClr val="f76b04"/>
                </a:solidFill>
                <a:latin typeface="Cambria"/>
              </a:rPr>
              <a:t>요양병원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중추신경계 환자 위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f76b04"/>
                </a:solidFill>
                <a:latin typeface="Cambria"/>
              </a:rPr>
              <a:t>  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뇌질환</a:t>
            </a:r>
            <a:r>
              <a:rPr b="0" lang="en-US" sz="2500" spc="-1" strike="noStrike">
                <a:solidFill>
                  <a:srgbClr val="f76b04"/>
                </a:solidFill>
                <a:latin typeface="Cambria"/>
              </a:rPr>
              <a:t>(CVA,TBI),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척수손상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통증치료실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모달리티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68360" y="134136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 근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/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 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8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2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5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0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~ 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무료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7" name="부제목 2"/>
          <p:cNvSpPr/>
          <p:nvPr/>
        </p:nvSpPr>
        <p:spPr>
          <a:xfrm>
            <a:off x="324000" y="260280"/>
            <a:ext cx="338436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 환경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내용 개체 틀 2"/>
          <p:cNvSpPr/>
          <p:nvPr/>
        </p:nvSpPr>
        <p:spPr>
          <a:xfrm>
            <a:off x="468360" y="3573360"/>
            <a:ext cx="822960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담당선생님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주일씩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4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명의 선생님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연차순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24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복 장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가 운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자율복장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편안한 복장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내화 착용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6836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 습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담당선생님의 스케줄에 따라 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, 2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이동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치료사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인당 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5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~20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Observation + FES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 Hot Pack + TENS + FES + Tilt Table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습과제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논문 번역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최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레포트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케이스 발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부제목 2"/>
          <p:cNvSpPr/>
          <p:nvPr/>
        </p:nvSpPr>
        <p:spPr>
          <a:xfrm>
            <a:off x="324000" y="260280"/>
            <a:ext cx="496872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내용</a:t>
            </a: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&amp;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과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장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환자들은 확실히 볼 수 있음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점심 무료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하철 역 바로 앞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호선 두류역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Transfer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하지 않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남자 간병인이 함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단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케이스 부족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나치게 신경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뇌줄중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편중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다른 학교 실습생들이 없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보건대와 대구대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과제수기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" name="부제목 2"/>
          <p:cNvSpPr/>
          <p:nvPr/>
        </p:nvSpPr>
        <p:spPr>
          <a:xfrm>
            <a:off x="324000" y="260280"/>
            <a:ext cx="374328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장점와 단점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14:17:26Z</dcterms:created>
  <dc:creator>XP_USER</dc:creator>
  <dc:description/>
  <dc:language>en-US</dc:language>
  <cp:lastModifiedBy>Staff</cp:lastModifiedBy>
  <dcterms:modified xsi:type="dcterms:W3CDTF">2009-04-11T08:25:26Z</dcterms:modified>
  <cp:revision>12</cp:revision>
  <dc:subject/>
  <dc:title>병원 실습 발표</dc:title>
</cp:coreProperties>
</file>